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A183-6D6C-42EA-A117-A3BC4A5810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nd their struc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i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8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peroxide is 16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 to 8 is a 2 to 1 rati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8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peroxide is 16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to 8 is a 2 to 1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rts of At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J. J. Thomson - English physicist. 18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a piece of equipment  called a cathode ray tub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vacuum tube - all the air has been pumped ou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limited amount of other gases are pu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- English physicist. 18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piece of equipment  called a cathode ray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vacuum tube - all the air has been pump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amount of other gases are pu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ny different metals and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was always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amount it bent he could find the ratio of charge to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the same with every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type of piece in every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many different metals and ga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am was always the s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the amount it bent he could find the ratio of charge to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s the same with every mate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me type of piece in every kind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m’s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ound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ldn’t find positive (for a while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id the atom was like plum pudd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unch of positive stuff, with the electrons able to be remo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m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find positive (for a wh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d the atom was like plum pud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nch of positive stuff, with the electrons able to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the history of atom, but the idea of the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riginal idea Ancient Greece (400 B.C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mocritus and Leucippus- Greek philosop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 history of atom, but the idea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idea Ancient Greece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and Leucippus- Greek philoso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 give some drops a charge by knocking of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ut an electric charge on the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ass of the drop and the charge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s, he calculated the charge on an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rnest Rutherford  English physicist. (191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lieved the plum pudding model of the atom was correc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nted to see how big they a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radioactiv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- positively charged pieces given off by uraniu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hot them at gold foil which can be made a few atoms thic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 English physicist. (19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the plum pudding model of the atom was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see how big the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- positively charged pieces given off by uran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t them at gold foil which can be made a few atoms th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n the alpha particles hit a florescent screen, it glow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re’s what it looked like (pg 7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lpha particles hit a florescent screen, it g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it looked like (pg 7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uresc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at b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sand - smaller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ossible pi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os - not to b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ooked at bea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of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ut sand - smaller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est possible piece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os - not to be c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 i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dense,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positive piec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at cent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deflected by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it if they get clos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noug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explaine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dens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itive pie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flected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f they get cl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dern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tom is mostly empty spa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-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region where you might find an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is most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-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region where you might find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and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nce most of the particles went through, it wa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 the pieces turned so much, the positive pieces were heav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volume, big mass, big dens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is small dense positive area is 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and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most of the particles went through, it wa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pieces turned so much, the positive pieces were heav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volume, big mass, big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 dense positive area is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ther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 - positively charged pieces 1840 times heavier than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 - no charge but the same mass as a prot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re are the piece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- positively charged pieces 1840 times heavier than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- no charge but the same mass as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pie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nother Gree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- Famous philosop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substances are made of 4 el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re - H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ir - l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rth - cool, heav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- w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lend these in different proportions to get all substanc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r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- Famous philos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of 4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-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-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cool,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- w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 these in different proportions to get all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ubatomic part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.11 x 10-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/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11 x 10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tructure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ith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ositive char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most all the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most of the volum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egion where the electron can be fou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most of the volum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ion where the electron can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ze of an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re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ed in picometers, 10-12 met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atom, 32 pm radi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 tiny compared to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adius of the nucleus is near 10-15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near 1014 g/cm3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icometers, 10-12 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, 32 pm rad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tiny compared to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of the nucleus is near 10-15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near 1014 g/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nting the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 = 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# of protons determines kind of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ame as the number of electrons in the neutral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 = the number of protons  +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the things with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on the periodic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of protons determines kind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as the number of electrons in the neutr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= the number of protons  +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things with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 was wro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can have different numbers of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fferent mass numb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led isotop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can have different numbers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ing 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ut the mass number after the name of the ele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- 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 -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he mass number after the name of the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-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 Was Righ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d not experi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reeks settled disagreements by argu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was a better debater - He w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 ideas carried through middle ag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chemists tried to change lead to gol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as R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not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settled disagreements by arg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was a better debater - He w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carried through middle 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ists tried to change lead to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91 protons and 140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91 protons and 140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78 electrons and 117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78 electrons and 117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avy is an atom of oxygen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different kinds of oxygen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re concerned with average atomic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ased on abundance of each element in natu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on’t use grams because the numbers would be too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avy is an atom of oxyg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kinds of oxygen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ncerned with average atomic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abundance of each element in n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grams because the numbers would be too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ing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nit is the Atomic Mass Unit (amu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ne twelfth the mass of a carbon-12 atom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 p+ and 6 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isotope has its own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e get the average using percent abundan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is the Atomic Mass Unit (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welfth the mass of a carbon-12 a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+ and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isotope has its own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e average using percent abund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otal mass =     4 x 50 + 1 x 60 = 260 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 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=     4 x 50 + 1 x 60 = 26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.8 x 50 + .2 x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% of the rocks were 5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% of the rocks were 6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=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.8 x 50 + .2 x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the rocks were 5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of the rocks were 6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=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 not a whole number because it is an average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the decimal numbers on the periodic ta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whole number because it is an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decimal numbers on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’s Nex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te 1700’s - John Dalton- Engla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eacher- summarized results of his experiments and those of ot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ments substances that can’t be broken d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n 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bined idea of elements with that of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’s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1700’s - John Dalton-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- summarized results of his experiments and those of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substances that can’t be brok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idea of elements with that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matter is made of  tiny indivisible particles called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atter is made of  tiny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Definite Proportions (#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compound has a specific ratio of element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ratio by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always 8 grams of oxygen for each gram of hydrogen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Definite Proportions (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und has a specific ratio of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ratio by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always 8 grams of oxygen for each gram of hydro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o of the ratios is a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Multiple Propor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atio of the ratios is a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395-8979-420B-B83D-CC44BAB5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D0C-09AD-4D14-A378-D8E4C31D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F66-2019-495A-9CFA-1EEFDBBB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1E4-CAFF-41DF-84A7-74B84B92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F07-102D-42DA-B38F-3B64947B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92C-1B0B-4FCB-A860-480A8EA7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E9E-1C35-485E-BE24-EB3025E9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254-5DDD-4A48-9CB6-DB29A49C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97E-3FDF-4FE5-B36F-737CBB3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497-BDCB-4131-A27E-3283A68E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00F-EB89-482A-AA8B-9E5F99F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83F-E82B-4B92-8489-8AA4D85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B563-C96A-44D8-A8D9-A326B430C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4" dur="1" fill="hold"/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92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93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96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99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4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15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18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1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3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3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41"/>
          <p:cNvSpPr/>
          <p:nvPr/>
        </p:nvSpPr>
        <p:spPr>
          <a:xfrm>
            <a:off x="1905120" y="2849400"/>
            <a:ext cx="5252760" cy="1122480"/>
          </a:xfrm>
          <a:custGeom>
            <a:avLst/>
            <a:gdLst/>
            <a:ahLst/>
            <a:rect l="l" t="t" r="r" b="b"/>
            <a:pathLst>
              <a:path w="3309" h="707">
                <a:moveTo>
                  <a:pt x="0" y="125"/>
                </a:moveTo>
                <a:cubicBezTo>
                  <a:pt x="0" y="125"/>
                  <a:pt x="0" y="413"/>
                  <a:pt x="0" y="701"/>
                </a:cubicBezTo>
                <a:cubicBezTo>
                  <a:pt x="207" y="695"/>
                  <a:pt x="585" y="707"/>
                  <a:pt x="849" y="704"/>
                </a:cubicBezTo>
                <a:cubicBezTo>
                  <a:pt x="1097" y="671"/>
                  <a:pt x="1568" y="625"/>
                  <a:pt x="1978" y="509"/>
                </a:cubicBezTo>
                <a:cubicBezTo>
                  <a:pt x="2388" y="393"/>
                  <a:pt x="3118" y="91"/>
                  <a:pt x="3309" y="8"/>
                </a:cubicBezTo>
                <a:cubicBezTo>
                  <a:pt x="3096" y="17"/>
                  <a:pt x="3193" y="13"/>
                  <a:pt x="3123" y="14"/>
                </a:cubicBezTo>
                <a:lnTo>
                  <a:pt x="2275" y="0"/>
                </a:lnTo>
                <a:cubicBezTo>
                  <a:pt x="2016" y="15"/>
                  <a:pt x="1800" y="83"/>
                  <a:pt x="1566" y="104"/>
                </a:cubicBezTo>
                <a:cubicBezTo>
                  <a:pt x="1290" y="123"/>
                  <a:pt x="1131" y="121"/>
                  <a:pt x="870" y="125"/>
                </a:cubicBezTo>
                <a:cubicBezTo>
                  <a:pt x="609" y="129"/>
                  <a:pt x="181" y="125"/>
                  <a:pt x="0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56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57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60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40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97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00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03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15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18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22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23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26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27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28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33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34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47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48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49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50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51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50" y="0"/>
                </a:ln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52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55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56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reeform 64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Freeform 67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reeform 68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reeform 71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66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69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75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78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81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84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7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8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21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22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9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30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31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7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50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51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54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55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61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2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65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66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69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70"/>
          <p:cNvSpPr/>
          <p:nvPr/>
        </p:nvSpPr>
        <p:spPr>
          <a:xfrm>
            <a:off x="5407200" y="285444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71"/>
          <p:cNvSpPr/>
          <p:nvPr/>
        </p:nvSpPr>
        <p:spPr>
          <a:xfrm>
            <a:off x="5297400" y="294480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4"/>
                </a:lnTo>
                <a:lnTo>
                  <a:pt x="17" y="4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72"/>
          <p:cNvSpPr/>
          <p:nvPr/>
        </p:nvSpPr>
        <p:spPr>
          <a:xfrm>
            <a:off x="531648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17" y="14"/>
                </a:lnTo>
                <a:lnTo>
                  <a:pt x="14" y="14"/>
                </a:lnTo>
                <a:lnTo>
                  <a:pt x="14" y="16"/>
                </a:lnTo>
                <a:lnTo>
                  <a:pt x="12" y="16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5475240" y="29066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74"/>
          <p:cNvSpPr/>
          <p:nvPr/>
        </p:nvSpPr>
        <p:spPr>
          <a:xfrm>
            <a:off x="4932360" y="3041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75"/>
          <p:cNvSpPr/>
          <p:nvPr/>
        </p:nvSpPr>
        <p:spPr>
          <a:xfrm>
            <a:off x="4932360" y="28544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76"/>
          <p:cNvSpPr/>
          <p:nvPr/>
        </p:nvSpPr>
        <p:spPr>
          <a:xfrm>
            <a:off x="5094360" y="2779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4" y="14"/>
                </a:lnTo>
                <a:lnTo>
                  <a:pt x="14" y="14"/>
                </a:lnTo>
                <a:lnTo>
                  <a:pt x="12" y="16"/>
                </a:lnTo>
                <a:lnTo>
                  <a:pt x="12" y="16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77"/>
          <p:cNvSpPr/>
          <p:nvPr/>
        </p:nvSpPr>
        <p:spPr>
          <a:xfrm>
            <a:off x="5086440" y="3135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78"/>
          <p:cNvSpPr/>
          <p:nvPr/>
        </p:nvSpPr>
        <p:spPr>
          <a:xfrm>
            <a:off x="4556160" y="3022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7"/>
                </a:lnTo>
                <a:lnTo>
                  <a:pt x="3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79"/>
          <p:cNvSpPr/>
          <p:nvPr/>
        </p:nvSpPr>
        <p:spPr>
          <a:xfrm>
            <a:off x="4229280" y="2763720"/>
            <a:ext cx="266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80"/>
          <p:cNvSpPr/>
          <p:nvPr/>
        </p:nvSpPr>
        <p:spPr>
          <a:xfrm>
            <a:off x="4424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81"/>
          <p:cNvSpPr/>
          <p:nvPr/>
        </p:nvSpPr>
        <p:spPr>
          <a:xfrm>
            <a:off x="4692600" y="277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7"/>
                </a:lnTo>
                <a:lnTo>
                  <a:pt x="19" y="9"/>
                </a:lnTo>
                <a:lnTo>
                  <a:pt x="16" y="9"/>
                </a:lnTo>
                <a:lnTo>
                  <a:pt x="16" y="12"/>
                </a:lnTo>
                <a:lnTo>
                  <a:pt x="16" y="14"/>
                </a:lnTo>
                <a:lnTo>
                  <a:pt x="14" y="14"/>
                </a:lnTo>
                <a:lnTo>
                  <a:pt x="14" y="16"/>
                </a:lnTo>
                <a:lnTo>
                  <a:pt x="11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82"/>
          <p:cNvSpPr/>
          <p:nvPr/>
        </p:nvSpPr>
        <p:spPr>
          <a:xfrm>
            <a:off x="3855960" y="28432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83"/>
          <p:cNvSpPr/>
          <p:nvPr/>
        </p:nvSpPr>
        <p:spPr>
          <a:xfrm>
            <a:off x="3529080" y="3030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5" y="2"/>
                </a:lnTo>
                <a:lnTo>
                  <a:pt x="5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84"/>
          <p:cNvSpPr/>
          <p:nvPr/>
        </p:nvSpPr>
        <p:spPr>
          <a:xfrm>
            <a:off x="3886200" y="327672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85"/>
          <p:cNvSpPr/>
          <p:nvPr/>
        </p:nvSpPr>
        <p:spPr>
          <a:xfrm>
            <a:off x="4454640" y="3184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86"/>
          <p:cNvSpPr/>
          <p:nvPr/>
        </p:nvSpPr>
        <p:spPr>
          <a:xfrm>
            <a:off x="4160880" y="2933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87"/>
          <p:cNvSpPr/>
          <p:nvPr/>
        </p:nvSpPr>
        <p:spPr>
          <a:xfrm>
            <a:off x="3908520" y="3068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88"/>
          <p:cNvSpPr/>
          <p:nvPr/>
        </p:nvSpPr>
        <p:spPr>
          <a:xfrm>
            <a:off x="4154400" y="31320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2"/>
                </a:lnTo>
                <a:lnTo>
                  <a:pt x="16" y="5"/>
                </a:lnTo>
                <a:lnTo>
                  <a:pt x="19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2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6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4" y="2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89"/>
          <p:cNvSpPr/>
          <p:nvPr/>
        </p:nvSpPr>
        <p:spPr>
          <a:xfrm>
            <a:off x="4259160" y="32749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90"/>
          <p:cNvSpPr/>
          <p:nvPr/>
        </p:nvSpPr>
        <p:spPr>
          <a:xfrm>
            <a:off x="5014800" y="2925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9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91"/>
          <p:cNvSpPr/>
          <p:nvPr/>
        </p:nvSpPr>
        <p:spPr>
          <a:xfrm>
            <a:off x="5124600" y="303840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9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92"/>
          <p:cNvSpPr/>
          <p:nvPr/>
        </p:nvSpPr>
        <p:spPr>
          <a:xfrm>
            <a:off x="4627440" y="31240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3"/>
          <p:cNvSpPr/>
          <p:nvPr/>
        </p:nvSpPr>
        <p:spPr>
          <a:xfrm>
            <a:off x="518148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6"/>
                </a:lnTo>
                <a:lnTo>
                  <a:pt x="2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94"/>
          <p:cNvSpPr/>
          <p:nvPr/>
        </p:nvSpPr>
        <p:spPr>
          <a:xfrm>
            <a:off x="4419720" y="411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95"/>
          <p:cNvSpPr/>
          <p:nvPr/>
        </p:nvSpPr>
        <p:spPr>
          <a:xfrm>
            <a:off x="4495680" y="44956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96"/>
          <p:cNvSpPr/>
          <p:nvPr/>
        </p:nvSpPr>
        <p:spPr>
          <a:xfrm>
            <a:off x="7543800" y="2487600"/>
            <a:ext cx="1376280" cy="712800"/>
          </a:xfrm>
          <a:custGeom>
            <a:avLst/>
            <a:gdLst/>
            <a:ahLst/>
            <a:rect l="l" t="t" r="r" b="b"/>
            <a:pathLst>
              <a:path w="867" h="449">
                <a:moveTo>
                  <a:pt x="0" y="213"/>
                </a:moveTo>
                <a:lnTo>
                  <a:pt x="144" y="213"/>
                </a:lnTo>
                <a:cubicBezTo>
                  <a:pt x="201" y="187"/>
                  <a:pt x="255" y="86"/>
                  <a:pt x="345" y="57"/>
                </a:cubicBezTo>
                <a:cubicBezTo>
                  <a:pt x="433" y="17"/>
                  <a:pt x="588" y="0"/>
                  <a:pt x="687" y="36"/>
                </a:cubicBezTo>
                <a:cubicBezTo>
                  <a:pt x="786" y="72"/>
                  <a:pt x="867" y="125"/>
                  <a:pt x="867" y="219"/>
                </a:cubicBezTo>
                <a:cubicBezTo>
                  <a:pt x="867" y="313"/>
                  <a:pt x="775" y="385"/>
                  <a:pt x="687" y="417"/>
                </a:cubicBezTo>
                <a:cubicBezTo>
                  <a:pt x="599" y="449"/>
                  <a:pt x="482" y="444"/>
                  <a:pt x="402" y="420"/>
                </a:cubicBezTo>
                <a:cubicBezTo>
                  <a:pt x="322" y="396"/>
                  <a:pt x="208" y="328"/>
                  <a:pt x="141" y="309"/>
                </a:cubicBezTo>
                <a:lnTo>
                  <a:pt x="0" y="309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7"/>
          <p:cNvSpPr/>
          <p:nvPr/>
        </p:nvSpPr>
        <p:spPr>
          <a:xfrm>
            <a:off x="7543800" y="2548080"/>
            <a:ext cx="1386000" cy="599760"/>
          </a:xfrm>
          <a:custGeom>
            <a:avLst/>
            <a:gdLst/>
            <a:ahLst/>
            <a:rect l="l" t="t" r="r" b="b"/>
            <a:pathLst>
              <a:path w="873" h="378">
                <a:moveTo>
                  <a:pt x="0" y="174"/>
                </a:moveTo>
                <a:lnTo>
                  <a:pt x="144" y="174"/>
                </a:lnTo>
                <a:cubicBezTo>
                  <a:pt x="206" y="152"/>
                  <a:pt x="282" y="65"/>
                  <a:pt x="372" y="39"/>
                </a:cubicBezTo>
                <a:cubicBezTo>
                  <a:pt x="504" y="51"/>
                  <a:pt x="591" y="36"/>
                  <a:pt x="687" y="18"/>
                </a:cubicBezTo>
                <a:cubicBezTo>
                  <a:pt x="783" y="0"/>
                  <a:pt x="873" y="99"/>
                  <a:pt x="867" y="180"/>
                </a:cubicBezTo>
                <a:cubicBezTo>
                  <a:pt x="861" y="261"/>
                  <a:pt x="771" y="348"/>
                  <a:pt x="675" y="342"/>
                </a:cubicBezTo>
                <a:cubicBezTo>
                  <a:pt x="579" y="336"/>
                  <a:pt x="501" y="318"/>
                  <a:pt x="402" y="348"/>
                </a:cubicBezTo>
                <a:cubicBezTo>
                  <a:pt x="303" y="378"/>
                  <a:pt x="208" y="289"/>
                  <a:pt x="141" y="270"/>
                </a:cubicBezTo>
                <a:lnTo>
                  <a:pt x="0" y="270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98"/>
          <p:cNvSpPr/>
          <p:nvPr/>
        </p:nvSpPr>
        <p:spPr>
          <a:xfrm>
            <a:off x="7534440" y="2619360"/>
            <a:ext cx="1376280" cy="500040"/>
          </a:xfrm>
          <a:custGeom>
            <a:avLst/>
            <a:gdLst/>
            <a:ahLst/>
            <a:rect l="l" t="t" r="r" b="b"/>
            <a:pathLst>
              <a:path w="867" h="315">
                <a:moveTo>
                  <a:pt x="0" y="129"/>
                </a:moveTo>
                <a:lnTo>
                  <a:pt x="144" y="129"/>
                </a:lnTo>
                <a:cubicBezTo>
                  <a:pt x="207" y="119"/>
                  <a:pt x="296" y="75"/>
                  <a:pt x="381" y="66"/>
                </a:cubicBezTo>
                <a:cubicBezTo>
                  <a:pt x="516" y="126"/>
                  <a:pt x="573" y="156"/>
                  <a:pt x="654" y="78"/>
                </a:cubicBezTo>
                <a:cubicBezTo>
                  <a:pt x="735" y="0"/>
                  <a:pt x="867" y="80"/>
                  <a:pt x="867" y="174"/>
                </a:cubicBezTo>
                <a:cubicBezTo>
                  <a:pt x="867" y="268"/>
                  <a:pt x="813" y="315"/>
                  <a:pt x="705" y="291"/>
                </a:cubicBezTo>
                <a:cubicBezTo>
                  <a:pt x="597" y="267"/>
                  <a:pt x="495" y="225"/>
                  <a:pt x="408" y="300"/>
                </a:cubicBezTo>
                <a:cubicBezTo>
                  <a:pt x="315" y="297"/>
                  <a:pt x="208" y="244"/>
                  <a:pt x="141" y="225"/>
                </a:cubicBezTo>
                <a:lnTo>
                  <a:pt x="0" y="225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99"/>
          <p:cNvSpPr/>
          <p:nvPr/>
        </p:nvSpPr>
        <p:spPr>
          <a:xfrm>
            <a:off x="7539120" y="2552760"/>
            <a:ext cx="1380960" cy="652320"/>
          </a:xfrm>
          <a:custGeom>
            <a:avLst/>
            <a:gdLst/>
            <a:ahLst/>
            <a:rect l="l" t="t" r="r" b="b"/>
            <a:pathLst>
              <a:path w="870" h="411">
                <a:moveTo>
                  <a:pt x="0" y="171"/>
                </a:moveTo>
                <a:lnTo>
                  <a:pt x="144" y="171"/>
                </a:lnTo>
                <a:cubicBezTo>
                  <a:pt x="211" y="153"/>
                  <a:pt x="270" y="0"/>
                  <a:pt x="405" y="60"/>
                </a:cubicBezTo>
                <a:cubicBezTo>
                  <a:pt x="540" y="120"/>
                  <a:pt x="585" y="132"/>
                  <a:pt x="669" y="69"/>
                </a:cubicBezTo>
                <a:cubicBezTo>
                  <a:pt x="753" y="6"/>
                  <a:pt x="870" y="93"/>
                  <a:pt x="867" y="177"/>
                </a:cubicBezTo>
                <a:cubicBezTo>
                  <a:pt x="864" y="261"/>
                  <a:pt x="807" y="360"/>
                  <a:pt x="687" y="375"/>
                </a:cubicBezTo>
                <a:cubicBezTo>
                  <a:pt x="573" y="306"/>
                  <a:pt x="501" y="273"/>
                  <a:pt x="408" y="342"/>
                </a:cubicBezTo>
                <a:cubicBezTo>
                  <a:pt x="315" y="411"/>
                  <a:pt x="208" y="286"/>
                  <a:pt x="141" y="267"/>
                </a:cubicBezTo>
                <a:lnTo>
                  <a:pt x="0" y="267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72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Freeform 103"/>
          <p:cNvSpPr/>
          <p:nvPr/>
        </p:nvSpPr>
        <p:spPr>
          <a:xfrm>
            <a:off x="7010280" y="3962520"/>
            <a:ext cx="563760" cy="18252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5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5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6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62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64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66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6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70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7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74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57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578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580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582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584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586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58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590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592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59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59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598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600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602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60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60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608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610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5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6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13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7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8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4294080" y="388296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24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Freeform 38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39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415" name="Freeform 41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46"/>
          <p:cNvSpPr/>
          <p:nvPr/>
        </p:nvSpPr>
        <p:spPr>
          <a:xfrm>
            <a:off x="7066080" y="258444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47"/>
          <p:cNvSpPr/>
          <p:nvPr/>
        </p:nvSpPr>
        <p:spPr>
          <a:xfrm>
            <a:off x="7062840" y="2581200"/>
            <a:ext cx="31284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50"/>
          <p:cNvSpPr/>
          <p:nvPr/>
        </p:nvSpPr>
        <p:spPr>
          <a:xfrm>
            <a:off x="6934320" y="389880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54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55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58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59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62"/>
          <p:cNvSpPr/>
          <p:nvPr/>
        </p:nvSpPr>
        <p:spPr>
          <a:xfrm>
            <a:off x="6916680" y="318780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63"/>
          <p:cNvSpPr/>
          <p:nvPr/>
        </p:nvSpPr>
        <p:spPr>
          <a:xfrm>
            <a:off x="533232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64"/>
          <p:cNvSpPr/>
          <p:nvPr/>
        </p:nvSpPr>
        <p:spPr>
          <a:xfrm>
            <a:off x="5222880" y="29876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5"/>
          <p:cNvSpPr/>
          <p:nvPr/>
        </p:nvSpPr>
        <p:spPr>
          <a:xfrm>
            <a:off x="5238720" y="288936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66"/>
          <p:cNvSpPr/>
          <p:nvPr/>
        </p:nvSpPr>
        <p:spPr>
          <a:xfrm>
            <a:off x="5396040" y="294624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67"/>
          <p:cNvSpPr/>
          <p:nvPr/>
        </p:nvSpPr>
        <p:spPr>
          <a:xfrm>
            <a:off x="4857840" y="3081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reeform 68"/>
          <p:cNvSpPr/>
          <p:nvPr/>
        </p:nvSpPr>
        <p:spPr>
          <a:xfrm>
            <a:off x="485784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reeform 69"/>
          <p:cNvSpPr/>
          <p:nvPr/>
        </p:nvSpPr>
        <p:spPr>
          <a:xfrm>
            <a:off x="5016600" y="2817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reeform 70"/>
          <p:cNvSpPr/>
          <p:nvPr/>
        </p:nvSpPr>
        <p:spPr>
          <a:xfrm>
            <a:off x="5008680" y="3179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Freeform 71"/>
          <p:cNvSpPr/>
          <p:nvPr/>
        </p:nvSpPr>
        <p:spPr>
          <a:xfrm>
            <a:off x="4478400" y="30621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reeform 72"/>
          <p:cNvSpPr/>
          <p:nvPr/>
        </p:nvSpPr>
        <p:spPr>
          <a:xfrm>
            <a:off x="4151160" y="2806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reeform 73"/>
          <p:cNvSpPr/>
          <p:nvPr/>
        </p:nvSpPr>
        <p:spPr>
          <a:xfrm>
            <a:off x="4346640" y="2833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reeform 74"/>
          <p:cNvSpPr/>
          <p:nvPr/>
        </p:nvSpPr>
        <p:spPr>
          <a:xfrm>
            <a:off x="4618080" y="281772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reeform 75"/>
          <p:cNvSpPr/>
          <p:nvPr/>
        </p:nvSpPr>
        <p:spPr>
          <a:xfrm>
            <a:off x="3782880" y="28861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reeform 76"/>
          <p:cNvSpPr/>
          <p:nvPr/>
        </p:nvSpPr>
        <p:spPr>
          <a:xfrm>
            <a:off x="3451320" y="30751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reeform 77"/>
          <p:cNvSpPr/>
          <p:nvPr/>
        </p:nvSpPr>
        <p:spPr>
          <a:xfrm>
            <a:off x="3827520" y="33116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78"/>
          <p:cNvSpPr/>
          <p:nvPr/>
        </p:nvSpPr>
        <p:spPr>
          <a:xfrm>
            <a:off x="4376880" y="322416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Freeform 79"/>
          <p:cNvSpPr/>
          <p:nvPr/>
        </p:nvSpPr>
        <p:spPr>
          <a:xfrm>
            <a:off x="4087800" y="29732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Freeform 80"/>
          <p:cNvSpPr/>
          <p:nvPr/>
        </p:nvSpPr>
        <p:spPr>
          <a:xfrm>
            <a:off x="3835440" y="310824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reeform 81"/>
          <p:cNvSpPr/>
          <p:nvPr/>
        </p:nvSpPr>
        <p:spPr>
          <a:xfrm>
            <a:off x="4079880" y="3171960"/>
            <a:ext cx="2556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reeform 82"/>
          <p:cNvSpPr/>
          <p:nvPr/>
        </p:nvSpPr>
        <p:spPr>
          <a:xfrm>
            <a:off x="4181400" y="331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reeform 83"/>
          <p:cNvSpPr/>
          <p:nvPr/>
        </p:nvSpPr>
        <p:spPr>
          <a:xfrm>
            <a:off x="4941720" y="29685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Freeform 84"/>
          <p:cNvSpPr/>
          <p:nvPr/>
        </p:nvSpPr>
        <p:spPr>
          <a:xfrm>
            <a:off x="5049720" y="3081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85"/>
          <p:cNvSpPr/>
          <p:nvPr/>
        </p:nvSpPr>
        <p:spPr>
          <a:xfrm>
            <a:off x="4552920" y="31640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reeform 86"/>
          <p:cNvSpPr/>
          <p:nvPr/>
        </p:nvSpPr>
        <p:spPr>
          <a:xfrm>
            <a:off x="5106960" y="2943360"/>
            <a:ext cx="2556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62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63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64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65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68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71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72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75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7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78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79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80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83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86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87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90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2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120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9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50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50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50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50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50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50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51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51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35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evt="end">
                                        <p:tn val="634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3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4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43" dur="3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4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9" dur="26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03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95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707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68" dur="5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811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8" dur="1" fill="hold"/>
                                  <p:tgtEl>
                                    <p:spTgt spid="8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2" dur="1" fill="hold"/>
                                  <p:tgtEl>
                                    <p:spTgt spid="8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4" dur="1" fill="hold"/>
                                  <p:tgtEl>
                                    <p:spTgt spid="8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72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84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96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908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920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54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60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61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Arc 10"/>
          <p:cNvSpPr/>
          <p:nvPr/>
        </p:nvSpPr>
        <p:spPr>
          <a:xfrm>
            <a:off x="5029200" y="3733920"/>
            <a:ext cx="38088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Arc 15"/>
          <p:cNvSpPr/>
          <p:nvPr/>
        </p:nvSpPr>
        <p:spPr>
          <a:xfrm>
            <a:off x="5105520" y="2971800"/>
            <a:ext cx="83808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Arc 18"/>
          <p:cNvSpPr/>
          <p:nvPr/>
        </p:nvSpPr>
        <p:spPr>
          <a:xfrm>
            <a:off x="4724280" y="3200400"/>
            <a:ext cx="611280" cy="380880"/>
          </a:xfrm>
          <a:custGeom>
            <a:avLst/>
            <a:gdLst/>
            <a:ahLst/>
            <a:rect l="l" t="t" r="r" b="b"/>
            <a:pathLst>
              <a:path fill="none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</a:path>
              <a:path stroke="0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79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5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3" dur="5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1" dur="1" fill="hold"/>
                                  <p:tgtEl>
                                    <p:spTgt spid="9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3" dur="1" fill="hold"/>
                                  <p:tgtEl>
                                    <p:spTgt spid="9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9" dur="1" fill="hold"/>
                                  <p:tgtEl>
                                    <p:spTgt spid="10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00"/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0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0" dur="1" fill="hold"/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/>
  <dc:description/>
  <cp:keywords/>
  <dc:language>en-US</dc:language>
  <cp:lastModifiedBy>LEGION</cp:lastModifiedBy>
  <dcterms:modified xsi:type="dcterms:W3CDTF">2017-01-26T09:37:31Z</dcterms:modified>
  <cp:revision>28</cp:revision>
  <dc:subject/>
  <dc:title>Chapter 4</dc:title>
</cp:coreProperties>
</file>